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314-6B69-42CA-9F9F-5AEB3352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5B6-FA6D-4899-80F3-8ADC5403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AE8-8360-40F4-9E9E-D6C6462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44C-1782-47EA-B43B-3ED34514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AF3-C916-472A-8C83-9DE61130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FA3-454C-479B-8E52-D463CE1E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9E89-7ACA-4C79-B2BA-D9E9D6E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4728-BC58-4069-BBA0-42B39D5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BBEA-482C-4EF5-B0E6-1C1DCCD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5B33-8DAC-43CB-B8C1-C76D2EA5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8B9D-337A-48EC-9958-44223DB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1AB-D67D-4E1B-A2A7-48409D8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7AC-C476-48B2-8DF9-8E7C467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BA64-C6C2-4EB8-9E51-CDBDC12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291-43BB-4452-961C-034A279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989F-50DD-4369-A94C-3EAA3C6B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F70F-A23B-45BA-BEEF-F14BE63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81F-93F2-4F61-B98D-EF2A0A2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EFC-6D1A-4AAE-B073-4DDD9AC8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6F0-B5D4-49E7-89EE-DF9FCB3B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E14-9E9E-460B-B48D-77651ECE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7E0-C13B-4F27-B822-ABD0B82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875-EC3F-4A08-92B1-F2E5E1F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70A-55CB-45F3-B95A-5658888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4AF-D9CD-41EE-AFA8-F717104CBBBE}" type="slidenum"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737-E67C-448A-A78E-F9A63A7223C3}" type="slidenum"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2880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Introducción al Proceso Administrativo: planeación y toma de decisi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r Lic. Gabriel Leandro, MB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50626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tegración de persona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identificar los requerimientos de los puestos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lutar y seleccionar las personas idó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r, compensar y capacitar al pers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fiere a ejercer influencia sobre los individuos para que colaboren en el logro de las metas organiza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liderazgo, autoridad, poder, motivación, comun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 en medir y corregir el desempeño individual y organizacional para garantizar que se alcance lo plane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evaluar el desempeño de los individuos y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medir productividad, desperdicio, variaciones presupuestaria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800" y="1700280"/>
            <a:ext cx="8539920" cy="4392720"/>
            <a:chOff x="208800" y="1700280"/>
            <a:chExt cx="8539920" cy="4392720"/>
          </a:xfrm>
        </p:grpSpPr>
        <p:sp>
          <p:nvSpPr>
            <p:cNvPr id="155" name=""/>
            <p:cNvSpPr/>
            <p:nvPr/>
          </p:nvSpPr>
          <p:spPr>
            <a:xfrm>
              <a:off x="466560" y="1773360"/>
              <a:ext cx="3673800" cy="4319640"/>
            </a:xfrm>
            <a:prstGeom prst="triangle">
              <a:avLst>
                <a:gd name="adj" fmla="val 50000"/>
              </a:avLst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1700280"/>
              <a:ext cx="4392720" cy="4392720"/>
            </a:xfrm>
            <a:prstGeom prst="rect">
              <a:avLst/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7640" y="3573360"/>
              <a:ext cx="720108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2920" y="4797360"/>
              <a:ext cx="77058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859280" y="1700280"/>
              <a:ext cx="7923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651640" y="1700280"/>
              <a:ext cx="13683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1640" y="1700280"/>
              <a:ext cx="64944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2637000"/>
              <a:ext cx="79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lt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6200" y="3789360"/>
              <a:ext cx="15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ntermedi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4000" y="515772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Mandos inferior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571000">
              <a:off x="-671760" y="342432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Jerarquía organizacional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901400">
              <a:off x="3877560" y="3882600"/>
              <a:ext cx="196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Planea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901400">
              <a:off x="4581360" y="3706200"/>
              <a:ext cx="237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Organiza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901400">
              <a:off x="6111360" y="3887280"/>
              <a:ext cx="178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Direc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7602480" y="37792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Control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Habilidades administr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técn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huma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de conceptu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de diseñ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Habilidades administr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8800" y="1700280"/>
            <a:ext cx="8539920" cy="4392720"/>
            <a:chOff x="208800" y="1700280"/>
            <a:chExt cx="8539920" cy="4392720"/>
          </a:xfrm>
        </p:grpSpPr>
        <p:sp>
          <p:nvSpPr>
            <p:cNvPr id="174" name=""/>
            <p:cNvSpPr/>
            <p:nvPr/>
          </p:nvSpPr>
          <p:spPr>
            <a:xfrm>
              <a:off x="466560" y="1773360"/>
              <a:ext cx="3673800" cy="4319640"/>
            </a:xfrm>
            <a:prstGeom prst="triangle">
              <a:avLst>
                <a:gd name="adj" fmla="val 50000"/>
              </a:avLst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1700280"/>
              <a:ext cx="4392720" cy="4392720"/>
            </a:xfrm>
            <a:prstGeom prst="rect">
              <a:avLst/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7640" y="3573360"/>
              <a:ext cx="720108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2920" y="4797360"/>
              <a:ext cx="77058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787640" y="1700280"/>
              <a:ext cx="100620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516720" y="1700280"/>
              <a:ext cx="10065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8000" y="2637000"/>
              <a:ext cx="79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lt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6200" y="3789360"/>
              <a:ext cx="15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ntermedi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4000" y="515772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Mandos inferior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571000">
              <a:off x="-671760" y="342432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Jerarquía organizacional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283560" y="43650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abilidades técnica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35640" y="4334040"/>
              <a:ext cx="174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abilidad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umana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8640" y="1773360"/>
              <a:ext cx="212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Habilidades d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conceptuali-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zació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y diseñ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aylo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padre de la administración científ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lica el método científico para mejorar los métodos de p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basaba en el concepto del hombre económ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3366"/>
                </a:solidFill>
                <a:latin typeface="Times New Roman"/>
              </a:rPr>
              <a:t>Fayol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: padre de la teoría administrativa moder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Determina funciones administrativas: técnicas, financieras, comerci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Propone 14 principios de la administración: división del trabajo, autoridad-responsabilidad, disciplina, unidad de mando, orden, equidad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McGregor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teoría X y teoría 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oría X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al empleado ordinario le desagrada el trabajo, es perezoso, tiene poca ambición y debe ser dirigido, obligado o amenazado con castigos para que dé un buen rendi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oría Y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la persona puede disfrutar del trabajo, adherirse a los objetivos organizacionales y buscar la responsabilidad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404640"/>
          <a:ext cx="8686800" cy="6143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oría 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oría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no gustan del trabajo y lo evita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trabajo puede ser fuente de satisfacció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deben ser controladas y amenaza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pueden ejercer autocontrol y autodirecció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trata de evitar las responsabili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aceptan y asumen responsabilidades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medio tiene poca ambición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tiene imaginación, creatividad e ingeni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se preocupan principalmente de su propia seguridad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 puede conseguir una mayor utilización del potencial human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tenido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dministración: Definición, naturaleza y propósito de la administ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nciones de los administr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Planeación: Tipos de pla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Pasos y objetivos de la plane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strategias, políticas y proceso de la planeación estraté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Toma de decision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Importancia y limitaciones del proceso de toma de decis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aluación de alternativas de deci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Likert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Sistemas de dir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1: Sistema autoritario y fuerte: La cima de la organización centraliza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2: Sistema autoritario benévolo: Existe más de confianza y comunicación, pero aun la interacción humana es poca y las decisiones centralizad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Likert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Sistemas de dir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3: Sistema participativo consultivo: mayor interacción a nivel personal y mayor apertura en la toma de decisiones,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4: Sistema participativo de grupo: confianza completa, las personas sienten responsabilidades en todos los niveles de la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nfoque sistémico de proces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Un sistema 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un conjunto de elementos dinámicamente relacion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que desarrollan una actividad para alcanzar un obje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operando sobre insumos tomados del medio exter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nfoque sistémico de proces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empresa se ve como un sistema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abier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complejo (implica subsistema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dinám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Planeación,</a:t>
            </a:r>
            <a:br>
              <a:rPr sz="5400"/>
            </a:b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estrategias y políticas</a:t>
            </a:r>
            <a:r>
              <a:rPr b="1" lang="es-CR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determinar misiones y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terminar las acciones necesarias para alcanzar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iende el puente entre el punto donde se está y el punto hacia donde se desea 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eación y control son inseparab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55640" y="2203560"/>
            <a:ext cx="187164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563920"/>
            <a:ext cx="720720" cy="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1989000"/>
            <a:ext cx="2664000" cy="1079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 los pla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563920"/>
            <a:ext cx="718920" cy="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203560"/>
            <a:ext cx="136656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2924280"/>
            <a:ext cx="0" cy="151272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8200" y="4363920"/>
            <a:ext cx="19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vi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 resp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lo plane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14920" y="3068640"/>
            <a:ext cx="0" cy="201600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714920" y="5011560"/>
            <a:ext cx="1728720" cy="0"/>
          </a:xfrm>
          <a:prstGeom prst="line">
            <a:avLst/>
          </a:prstGeom>
          <a:ln w="190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18920" y="5011560"/>
            <a:ext cx="3095640" cy="0"/>
          </a:xfrm>
          <a:prstGeom prst="line">
            <a:avLst/>
          </a:prstGeom>
          <a:ln w="190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19280" y="2923920"/>
            <a:ext cx="0" cy="216036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09840" y="505944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ipos de plan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148428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205000"/>
            <a:ext cx="4608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bjetivos y me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292572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645000"/>
            <a:ext cx="352908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365720"/>
            <a:ext cx="439236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cedimientos y re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508644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5805360"/>
            <a:ext cx="424836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upue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270972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342900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14972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487044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558972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 la misión se identifica la función o tarea básica de una empresa o una parte de el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 todo sistema social, las empresas tienen una función o tarea esencial que la sociedad les asig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gunas veces la misión se sustenta en valores corpora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valores constituyen la forma en que la empresa se percibe a sí misma y a quienes la integran y rode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valores dan forma a su filosof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918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Administración: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</a:rPr>
              <a:t>Definición, naturaleza y propósito de la administr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Objetivos y met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os objetivos son los fines que se persiguen por medio de una u otra a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Representan el fin que se persigue mediante la organización, la integración de personal, la dirección y el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as metas se diferencian porque son medibles o verificables objetivamente: responden a preguntas como: qué, cuánto, cuánd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lacionan con la determinación de objetivos básicos a largo plazo de una empresa y la adopción de cursos de acción y la asignación de los recursos necesarios para su cumpli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 programa general para definir y alcanzar los objetivos y poner en práctica la m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patrón de las respuestas de la organización a su ambiente a través del tiem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n en enunciados o criterios generales que orientan o encauzan el pensamiento en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yudan a decidir asuntos antes de que se conviertan en proble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uelven innecesario el análisis de la misma situación cada vez que se presen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miten delegar autoridad sin perder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cedimient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miten establecer un método para el manejo de actividades f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n en secuencias cronológicas de las acciones requerid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n guías de acción, no de pensamiento, en las que se detalla la manera exacta en que debe realizarse al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l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onen acciones u omisiones específicas, no sujetas a la discrecionalidad de las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n una decisión administrativa en cuanto a la obligada realización u omisión de una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diferencia entre las políticas y las reglas es que las políticas orientan decisiones en las que se puede actuar a discreción, pero en las reglas no se permite la discrecion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n un conjunto de metas, políticas, procedimientos, reglas, asignaciones de tareas, pasos a seguir, recursos por emplear y otros elementos necesario para llevar a cabo un curso de acción d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neralmente se apoyan en presupues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supuest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a formulación de resultados expresados en términos numér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ede expresarse en términos monetarios o de unidades físicas (tiempo, unidades de producto, etc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instrumento de planeación fundamental de much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348000" y="260280"/>
            <a:ext cx="266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1195560"/>
            <a:ext cx="3024000" cy="502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estraté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76356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1700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2131920"/>
            <a:ext cx="302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opera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2635200"/>
            <a:ext cx="0" cy="28908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195640" y="2924280"/>
            <a:ext cx="252072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2924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8120" y="238932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a ac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recurr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3355920"/>
            <a:ext cx="302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de un solo u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4292640"/>
            <a:ext cx="1726920" cy="1224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4292640"/>
            <a:ext cx="1152360" cy="1224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Presu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pues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16000" y="2924280"/>
            <a:ext cx="25210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36000" y="2924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4360" y="335592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perman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429264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7440" y="386064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4360" y="522756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cedimi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7440" y="479592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616572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7440" y="57340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21200" y="234936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a ac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curr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álisis situacion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biente intern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talez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bil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biente extern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ortun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enaz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tablecimiento de objetivos y met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ponder a preguntas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ónde se quiere esta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é se desea hacer y cuán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erarquizar objetivos: plantear objetivos cla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bjetivos por jerarquía organizacional: estratégicos, operacionales, generales, individu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Administración:</a:t>
            </a:r>
            <a:r>
              <a:rPr b="1" lang="es-CR" sz="4400" spc="-1" strike="noStrike">
                <a:solidFill>
                  <a:srgbClr val="003366"/>
                </a:solidFill>
                <a:latin typeface="Times New Roman"/>
              </a:rPr>
              <a:t> Defini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 el proceso d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lanear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organizar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irigir 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ontrol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os esfuerzos de los miembros de la organización, y de aplicar los demás recursos de ella para alcanzar las metas establecidas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arrollo de premis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nosticar condiciones internas y externas en que se operará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lumen de ventas? Precios? Productos? Adelantos técnicos? Costos? Salarios? Políticas fiscales? Condiciones sociales?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cación de cursos de acción alternativ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identificar las mejores alternativas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inar sus ventajas y desventaj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valuación de las alternativ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r los distintos cursos alternativos de acción a la luz de las premisas establecidas (paso 3) y las metas que se desea alcanzar (paso 2) de acuerdo con el entorno que enfrenta la empresa (paso 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lección de un curso de acció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toma una dec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elige el que se pueda considerar como el mejor curso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mulación de planes de apoy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elaboran planes derivados en apoyo al plan bás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r ejemplo: plan de compra de equipo, plan de compra de materiales, plan de capacitación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8. </a:t>
            </a:r>
            <a:r>
              <a:rPr b="1" lang="es-CR" sz="3200" spc="-1" strike="noStrike">
                <a:solidFill>
                  <a:srgbClr val="003366"/>
                </a:solidFill>
                <a:latin typeface="Times New Roman"/>
              </a:rPr>
              <a:t>Presupuestació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os planes se trasladan a cifras a través de los presupuest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Presupuestos de ventas, de gastos de operación, de efectivo, estados financieros, inversiones de capital, entre ot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dministración por objetiv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 sistema administrativo integ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combinan en forma sistemática muchas actividades administrativas bás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sigue el cumplimiento eficaz y eficiente de los objetivos organizacionales e individ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dministración por objetiv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ce énfasis en la evaluación del desempeñ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 mucha importancia a los objetivos individuales, la motivación, los incentivos, la participación y la autonom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concentra mucho en el cort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strategias y polític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se relacionan con los objetivos a largo plazo de una empresa y la adopción de cursos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yen un programa general para definir y alcanzar los objetivos y poner en práctica la m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n un patrón de las respuestas de la organización a su ambiente a lo largo del tiem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aracterísticas de las estrategi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rizonte temporal ampl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acto final relev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centración del esfuerzo en un número reducido de fi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trón de decisiones unifor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oban a toda la organización: desde la asignación de recursos hasta las operaciones diarias en todos los nivele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l proceso administrativ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l proceso administrativo consiste básicamente en una serie de actividades relacionadas conducentes a alcanzar los objetivos organizacionales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cipio de la estructura de estrategias y polític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uanto más claras sean la comprensión de las estrategias y políticas y su implementación en la práctica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nto más consistente y efectiva será la estructura de los planes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laneación estratégic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proceso formal de planeación a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utiliza para definir y alcanzar las meta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acilita mejoras en el funcionamiento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nsibiliza a la empresa ante un ambiente cambi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 ocupa de cuestiones fundamental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ponde a preguntas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En qué negocio estam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En qué negocio deberíamos esta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Quiénes son nuestros cliente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frece un marco de referencia para una planeación más detallada y para las decisiones ordinari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Cuáles opciones serán las más adecuadas de acuerdo con nuestra estrategi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upone un marco temporal más largo que otros tipos de plane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diferencia de la planeación operativa porque se enfoca en el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yuda a orientar las energías y recursos de la organización hacia las actividades de alta priorida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gue mayor eficiencia al concentrarse en un número reducido de fines cla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 una actividad de alto nive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alta gerencia debe participar activa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ólo la alta gerencia tiene la visión necesaria para considerar todos los aspecto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ceso de planeación estratégic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nque no existe un proceso universal de planeación estratégica, si pueden plantearse una serie de pasos básicos en los que el proceso puede fundamentar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1125360"/>
            <a:ext cx="1225440" cy="424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sum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Metas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grup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teresad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mple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veed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ccionis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2637000"/>
            <a:ext cx="1079640" cy="107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 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285264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fi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mpresar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4149720"/>
            <a:ext cx="115272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n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765000"/>
            <a:ext cx="1152720" cy="1366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ient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jecuti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32360" y="249228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436572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rtale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549360"/>
            <a:ext cx="1152360" cy="1366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Amena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Oportu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n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49228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dec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285264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Implemen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t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2000" y="443700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contr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4328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133720"/>
            <a:ext cx="0" cy="71892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3429000"/>
            <a:ext cx="0" cy="71928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472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572000" y="1197000"/>
            <a:ext cx="0" cy="194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1197000"/>
            <a:ext cx="360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572000" y="3068640"/>
            <a:ext cx="0" cy="194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5013360"/>
            <a:ext cx="360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16280"/>
            <a:ext cx="0" cy="57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386064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141720"/>
            <a:ext cx="2876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8360" y="3429000"/>
            <a:ext cx="0" cy="1008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8360" y="5013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55640" y="6237360"/>
            <a:ext cx="7632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55640" y="537336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916360" y="1412640"/>
            <a:ext cx="0" cy="4824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6360" y="1413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16360" y="29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427640" y="980640"/>
            <a:ext cx="0" cy="5256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7640" y="981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335772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948360" y="3860640"/>
            <a:ext cx="0" cy="237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lgunas estrategias: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La matriz TOW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50920" y="1805040"/>
          <a:ext cx="8569080" cy="4071960"/>
        </p:xfrm>
        <a:graphic>
          <a:graphicData uri="http://schemas.openxmlformats.org/drawingml/2006/table">
            <a:tbl>
              <a:tblPr/>
              <a:tblGrid>
                <a:gridCol w="1512720"/>
                <a:gridCol w="1728720"/>
                <a:gridCol w="2664000"/>
                <a:gridCol w="2663640"/>
              </a:tblGrid>
              <a:tr h="533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actores interno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rtalez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bili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actor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erno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portuni-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FO: usar F para aprovechar 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DO: superar D para aprovechar 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naz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FA: usar F para enfrentar 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DA: minimizar D y 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l proceso administrativ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l proceso administrativo tiene cuatro elementos básic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lcance de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or medio de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ediante técn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n una organización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3366"/>
                </a:solidFill>
                <a:latin typeface="Times New Roman"/>
              </a:rPr>
              <a:t>Algunas estrategias:</a:t>
            </a:r>
            <a:br>
              <a:rPr sz="4000"/>
            </a:br>
            <a:r>
              <a:rPr b="1" lang="es-CR" sz="4000" spc="-1" strike="noStrike">
                <a:solidFill>
                  <a:srgbClr val="003366"/>
                </a:solidFill>
                <a:latin typeface="Times New Roman"/>
              </a:rPr>
              <a:t>Estrategias genéricas de Porte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s estrategias genéric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derazgo de cos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ferenci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fo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pueden combin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lacionan con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ntajas competi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strumentación exitosa de estrategi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Comunicar las estrategias a todos los responsables de tomar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Desarrollar y comunicar premisas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Comprobar que los planes de acción contribuyan a lograr los objetivos y que las estrategias sean reflejo de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strumentación exitosa de estrategi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Revisar regularmente las estrateg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Desarrollar estrategias y programas de contingenc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6. Adecuar la estructura organizacional a las necesidades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. Insistir permanentemente en la planeación y la instrumentación de estrateg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8. Crear un clima que induzca a la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Toma de</a:t>
            </a:r>
            <a:br>
              <a:rPr sz="5400"/>
            </a:b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ecisiones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Importancia de la</a:t>
            </a:r>
            <a:br>
              <a:rPr sz="4000"/>
            </a:b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toma racional de decisio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toma de decisiones es la parte más importante del proceso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 proceso dirigido a la toma de una decisión puede concebirse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ecimiento de premi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dentificación de alterna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las alterna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ección de una alternat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Limitaciones del proceso de</a:t>
            </a:r>
            <a:br>
              <a:rPr sz="4000"/>
            </a:b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toma racional de decisio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to grado de incertidumbre sobre las condiciones f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 se pueden considerar todas las posibles alternativas ni sus efe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aplicar una racionalidad “limitada” por la información, el tiempo y la incertidumb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valuación de alternativas de decisió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considerar factores cuantitativos y cualita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uantitativo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tiempo, costos, ganancia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ualitativo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relaciones laborales, cambio tecnológico, condiciones políticas y soci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écnicas cuantit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margi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costo – benefici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Árboles de dec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tras técnicas de investigación de oper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elección de una alternativ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3213000"/>
            <a:ext cx="2160360" cy="792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eri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49800" y="1557360"/>
            <a:ext cx="273672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eri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94160" y="4869000"/>
            <a:ext cx="2376360" cy="1225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7080" y="2852640"/>
            <a:ext cx="2160360" cy="1513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¿Cu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ltern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eccion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18160" y="3068640"/>
            <a:ext cx="2160720" cy="1152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4720" y="3645000"/>
            <a:ext cx="792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8160" y="234936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718160" y="436572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440" y="3645000"/>
            <a:ext cx="719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Certidumbre, incertidumbre y riesg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ertez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Cuando se conocen los efectos que generará cierta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esgo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El efecto de la decisión se conoce solo en términos de probabil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certidumbr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Se desconocen los efectos futuros de las decisiones pres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1413000"/>
            <a:ext cx="316872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494080"/>
            <a:ext cx="40320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573360"/>
            <a:ext cx="547344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gración de person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653000"/>
            <a:ext cx="40320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5732640"/>
            <a:ext cx="316872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141720"/>
            <a:ext cx="0" cy="43164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302080"/>
            <a:ext cx="0" cy="43200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Fin</a:t>
            </a:r>
            <a:br>
              <a:rPr sz="5400"/>
            </a:b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Muchas gracias!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101680" y="4149720"/>
            <a:ext cx="50626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determinar misiones y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terminar las acciones necesarias para alcanzar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pone el establecimiento de una estructura de los papeles que cada persona debe desempeñ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asignan las tareas necesarias a las personas idóneas para el cumplimiento de los objetivos y met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2:59:24Z</dcterms:created>
  <dc:creator>Gabriel Leandro</dc:creator>
  <dc:description/>
  <dc:language>en-US</dc:language>
  <cp:lastModifiedBy>WinuE</cp:lastModifiedBy>
  <dcterms:modified xsi:type="dcterms:W3CDTF">2011-02-12T00:46:49Z</dcterms:modified>
  <cp:revision>127</cp:revision>
  <dc:subject/>
  <dc:title>Curso de Formación Empresarial</dc:title>
</cp:coreProperties>
</file>